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292E-59BC-4645-AC0F-2763F413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DCDF-9987-494D-8C1F-43EE8D2F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B17A-73A2-4A59-BC07-0E08B63D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7674-AB5A-4A29-A506-62FCEDB3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F1BF-9F03-4F74-9917-995CD371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49DB-A60B-496A-A614-67190C14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21D2-8322-40AB-964B-D1B166E3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AE8D-6978-42BB-B839-798C007E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3DD1-54A5-467C-AB57-1040070C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A707-7680-4600-8796-6C554176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4109-1133-47E1-8423-EC014659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69A1-5057-4BB2-AD2D-EFD23A05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54B6-1525-41C1-BCB9-D8ED10AEC0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264600" y="195120"/>
            <a:ext cx="5711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70c0"/>
                </a:solidFill>
                <a:latin typeface="Arial"/>
                <a:ea typeface="Arial"/>
              </a:rPr>
              <a:t>СООТВЕТСТВИ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ttps://psv4.userapi.com/c235031/u8334488/docs/d43/7df4ca68b4f8/Viktorina_Podvig_uchitelstva.jpg?extra=bOkdtXJ2xlQItq9bFi0gNSxfKhOhIvlRwiX6q5_HW-yrIuyqJOyfNsdtw4pF4Hv0O-fBDFV9-vWSLLWJeYX9Qb89eB9FjiQOEAR52tMi4vWzuQGr3ni159hxwr32cqf6JeUn9bEjIjU-l6xeGMZ4"/>
          <p:cNvPicPr/>
          <p:nvPr/>
        </p:nvPicPr>
        <p:blipFill>
          <a:blip r:embed="rId1"/>
          <a:stretch/>
        </p:blipFill>
        <p:spPr>
          <a:xfrm>
            <a:off x="1042920" y="1203480"/>
            <a:ext cx="7201080" cy="36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7" descr="https://upload.wikimedia.org/wikipedia/commons/thumb/c/ce/Johan_amos_comenius_1592-1671.jpg/1280px-Johan_amos_comenius_1592-1671.jpg"/>
          <p:cNvPicPr/>
          <p:nvPr/>
        </p:nvPicPr>
        <p:blipFill>
          <a:blip r:embed="rId1"/>
          <a:stretch/>
        </p:blipFill>
        <p:spPr>
          <a:xfrm>
            <a:off x="5565600" y="2903400"/>
            <a:ext cx="1886040" cy="2135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5" descr="Януш Корчак"/>
          <p:cNvPicPr/>
          <p:nvPr/>
        </p:nvPicPr>
        <p:blipFill>
          <a:blip r:embed="rId2"/>
          <a:srcRect l="26768" t="7905" r="26256" b="20340"/>
          <a:stretch/>
        </p:blipFill>
        <p:spPr>
          <a:xfrm>
            <a:off x="3386160" y="2847960"/>
            <a:ext cx="2122560" cy="216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3" descr="Лев Николаевич Толстой"/>
          <p:cNvPicPr/>
          <p:nvPr/>
        </p:nvPicPr>
        <p:blipFill>
          <a:blip r:embed="rId3"/>
          <a:stretch/>
        </p:blipFill>
        <p:spPr>
          <a:xfrm>
            <a:off x="5859360" y="766800"/>
            <a:ext cx="2990880" cy="1994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1" descr="Антон Семёнович Макаренко"/>
          <p:cNvPicPr/>
          <p:nvPr/>
        </p:nvPicPr>
        <p:blipFill>
          <a:blip r:embed="rId4"/>
          <a:srcRect l="26768" t="7905" r="26256" b="20340"/>
          <a:stretch/>
        </p:blipFill>
        <p:spPr>
          <a:xfrm>
            <a:off x="3641760" y="692280"/>
            <a:ext cx="2116080" cy="2155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Лев Семенович Выготский"/>
          <p:cNvPicPr/>
          <p:nvPr/>
        </p:nvPicPr>
        <p:blipFill>
          <a:blip r:embed="rId5"/>
          <a:srcRect l="18327" t="0" r="18444" b="0"/>
          <a:stretch/>
        </p:blipFill>
        <p:spPr>
          <a:xfrm>
            <a:off x="7575480" y="2847960"/>
            <a:ext cx="1460520" cy="2146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1760" y="840960"/>
            <a:ext cx="4581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Лев Семенович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гот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775800" y="120600"/>
            <a:ext cx="75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1. ИСТОРИЯ ПЕДАГОГ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219240" y="174636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Антон Семенович Макар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220680" y="258912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Лев Николае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Тол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220680" y="343548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Януш Корч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179280" y="415620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Ян Амо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Ком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5321160" y="2206800"/>
            <a:ext cx="366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8458200" y="2063880"/>
            <a:ext cx="365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3387600" y="4365720"/>
            <a:ext cx="366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688000" y="4432320"/>
            <a:ext cx="365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7559640" y="4491000"/>
            <a:ext cx="366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53840" y="1488960"/>
            <a:ext cx="4103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ТИФЛОПЕДАГ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154800" y="68400"/>
            <a:ext cx="89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ПЕДАГОГИЧЕСКИЕ СПЕЦИА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2585880" y="213660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ГУВЕРНЁ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2554200" y="288144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СУРДОПЕДАГ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2523960" y="3597120"/>
            <a:ext cx="4580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ОЛИГОФРЕНОПЕДАГ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2585880" y="424980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ЛОГОП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53840" y="1488960"/>
            <a:ext cx="4103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Апостол Андр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714240" y="171360"/>
            <a:ext cx="77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3. БИБЛЕЙСКИЕ МОТИВ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УЧЕНИКИ ИИСУСА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2585880" y="213660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Апостол Иоанн Бого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2554200" y="288144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Апостол Пё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2523960" y="3597120"/>
            <a:ext cx="4580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Апостол Ф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2585880" y="424980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Апостол Мар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1"/>
          <p:cNvSpPr/>
          <p:nvPr/>
        </p:nvSpPr>
        <p:spPr>
          <a:xfrm>
            <a:off x="217440" y="423072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Мери Поппин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https://img.1tv.com/img/2021-10-04/fmt_96_24_1633527278_1.jpg"/>
          <p:cNvPicPr/>
          <p:nvPr/>
        </p:nvPicPr>
        <p:blipFill>
          <a:blip r:embed="rId1"/>
          <a:srcRect l="6253" t="0" r="15002" b="0"/>
          <a:stretch/>
        </p:blipFill>
        <p:spPr>
          <a:xfrm>
            <a:off x="2968560" y="915840"/>
            <a:ext cx="2590920" cy="1851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s://i.pinimg.com/736x/fb/eb/2a/fbeb2ad017b9567b62a7ed425c0aeb0a.jpg"/>
          <p:cNvPicPr/>
          <p:nvPr/>
        </p:nvPicPr>
        <p:blipFill>
          <a:blip r:embed="rId2"/>
          <a:stretch/>
        </p:blipFill>
        <p:spPr>
          <a:xfrm>
            <a:off x="5707080" y="765000"/>
            <a:ext cx="1598760" cy="203220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829080" y="114480"/>
            <a:ext cx="73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4. МАССОВАЯ КУЛЬ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https://wiki.briefly.ru/images/b/b9/%D0%90%D0%BB%D1%8C%D0%B1%D1%83%D1%81_%D0%94%D0%B0%D0%BC%D0%B1%D0%BB%D0%B4%D0%BE%D1%80.jpg?20190124152402"/>
          <p:cNvPicPr/>
          <p:nvPr/>
        </p:nvPicPr>
        <p:blipFill>
          <a:blip r:embed="rId3"/>
          <a:stretch/>
        </p:blipFill>
        <p:spPr>
          <a:xfrm>
            <a:off x="7451640" y="771480"/>
            <a:ext cx="1540080" cy="1968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https://irecommend.ru/sites/default/files/imagecache/copyright1/user-images/1654489/m2V6CqRbsAhwQTg484ugQ.jpg"/>
          <p:cNvPicPr/>
          <p:nvPr/>
        </p:nvPicPr>
        <p:blipFill>
          <a:blip r:embed="rId4"/>
          <a:stretch/>
        </p:blipFill>
        <p:spPr>
          <a:xfrm>
            <a:off x="3052800" y="2922480"/>
            <a:ext cx="2548080" cy="2009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https://www.kp.ru/putevoditel/serialy/wp-content/uploads/2020/02/star-wars-obi-wan-kenobi-ben-4374-2048x1190.jpg"/>
          <p:cNvPicPr/>
          <p:nvPr/>
        </p:nvPicPr>
        <p:blipFill>
          <a:blip r:embed="rId5"/>
          <a:srcRect l="6214" t="0" r="0" b="0"/>
          <a:stretch/>
        </p:blipFill>
        <p:spPr>
          <a:xfrm>
            <a:off x="5651640" y="2924280"/>
            <a:ext cx="3197160" cy="1981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5707080" y="433872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052800" y="4338720"/>
            <a:ext cx="48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8481960" y="2216160"/>
            <a:ext cx="48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5727600" y="230832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2998800" y="220356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1760" y="840960"/>
            <a:ext cx="4581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Оби Ван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еноб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219240" y="174636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Сенсей Ир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Ум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220680" y="258912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Мисс Грей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Грей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219240" y="342252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Професс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Альбус Дамблд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" descr="https://avatars.dzeninfra.ru/get-zen_doc/1336031/pub_5d80b57b86c4a900acdf00de_5d80b8f092414d00aeeefa90/scale_1200"/>
          <p:cNvPicPr/>
          <p:nvPr/>
        </p:nvPicPr>
        <p:blipFill>
          <a:blip r:embed="rId1"/>
          <a:stretch/>
        </p:blipFill>
        <p:spPr>
          <a:xfrm>
            <a:off x="5880240" y="2967120"/>
            <a:ext cx="2720880" cy="203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s://images.golos.io/DQmSZEdEwa1bJABqqV6cBmV9wkdcF1QWdbNvgNyPBa7zVdf/2019-06-10%2014-10-22.JPG"/>
          <p:cNvPicPr/>
          <p:nvPr/>
        </p:nvPicPr>
        <p:blipFill>
          <a:blip r:embed="rId2"/>
          <a:stretch/>
        </p:blipFill>
        <p:spPr>
          <a:xfrm>
            <a:off x="227160" y="3076560"/>
            <a:ext cx="4271760" cy="20350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1043280" y="114480"/>
            <a:ext cx="69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5. ЗАЧЕМ ЭТО НУЖ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5880240" y="4476600"/>
            <a:ext cx="48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06280" y="458784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s://proza.ru/pics/2018/02/04/2065.jpg"/>
          <p:cNvPicPr/>
          <p:nvPr/>
        </p:nvPicPr>
        <p:blipFill>
          <a:blip r:embed="rId3"/>
          <a:stretch/>
        </p:blipFill>
        <p:spPr>
          <a:xfrm>
            <a:off x="533520" y="760320"/>
            <a:ext cx="2104920" cy="210204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549360" y="235584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https://avatars.mds.yandex.net/get-mpic/4615588/img_id3425990097656984869.jpeg/orig"/>
          <p:cNvPicPr/>
          <p:nvPr/>
        </p:nvPicPr>
        <p:blipFill>
          <a:blip r:embed="rId4"/>
          <a:stretch/>
        </p:blipFill>
        <p:spPr>
          <a:xfrm>
            <a:off x="3132000" y="738360"/>
            <a:ext cx="2151360" cy="219528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2987640" y="233856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https://ic.pics.livejournal.com/nelidova_ng/83946200/183305/183305_original.jpg"/>
          <p:cNvPicPr/>
          <p:nvPr/>
        </p:nvPicPr>
        <p:blipFill>
          <a:blip r:embed="rId5"/>
          <a:stretch/>
        </p:blipFill>
        <p:spPr>
          <a:xfrm>
            <a:off x="5707080" y="803160"/>
            <a:ext cx="3067200" cy="204624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8209080" y="2338560"/>
            <a:ext cx="48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9:07:49Z</dcterms:created>
  <dc:creator>zerkalo</dc:creator>
  <dc:description/>
  <dc:language>en-US</dc:language>
  <cp:lastModifiedBy>ALFA</cp:lastModifiedBy>
  <dcterms:modified xsi:type="dcterms:W3CDTF">2023-01-25T20:07:34Z</dcterms:modified>
  <cp:revision>141</cp:revision>
  <dc:subject/>
  <dc:title>Слайд 1</dc:title>
</cp:coreProperties>
</file>